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Western blot analysis of acetylated histone H4 in breast cancer cell lines. Cells (∼1 × 105) were treated with 2 μm TSA in 0.1% (v/v) ethanol or 0.1% (v/v) ethanol as vehicle control for 24 h at 37°C. An acetylation-specific anti-histone H4 antibody was used to probe Western blots as described in “Materials and Metho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mmunodetection of acetylated hERα in MCF-7 breast carcinoma cells. Cells (∼2.5 × 106) were treated with 0.5 μm TSA in 0.1% (v/v) ethanol or 0.1% ethanol (v/v) as vehicle control for 24 h at 37°C. hERα was immunoprecipitated from whole cell extracts; an antibody that recognize acetylated lysine residues (anti-AcLys) and another antibody to hERα (anti-ERα) were used to probe Western blots as described in “Materials and Metho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, effect of TSA on growth of NMU-induced rat mammary tumors. Sixteen animals received 500 μg/kg TSA in 50 μl of DMSO, and 14 animals were given 50 μl of DMSO as vehicle control by s.c. injection daily for 4 weeks. Tumor measurements were obtained each week, and the tumor volume was calculated as described in “Materials and Methods.” Results are expressed as the mean tumor volume (mm3) for the TSA-treated (•) and vehicle control groups (○). Bars, SE. B, effect of TSA on body mass of rats bearing NMU-induced mammary tumors. Results are expressed as the percentage change from the mean body mass at the start of the experiment for TSA-treated (•) and vehicle control groups (○). Bars, 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hotomicrographs of tumor sections stained with H&amp;E. A, cribiform/papillary carcinoma in a control animal. Masses of proliferating epithelial cells surround acinar spaces of varying size and shape, some of which contain secretion. ×100. B, anaplastic carcinoma refractory to TSA treatment. Epithelial cells with high mitotic activity are arranged in irregular sheets with little stroma. Acini are absent. ×200. C, benign tubular adenoma in a tumor that responded to TSA. The tumor is composed of simple tubular structures separated by only a small amount of stroma. An occasional myoepithelial cell is present in some of the tubules. ×200. D, benign pericanalicular fibroadenoma in a trichostatin A-responsive tumor. Bands of fibrous tissue surround islets of secretory epithelium and myoepithelium with loss of lobular structure. ×2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ichostatin A Is a Histone Deacetylase Inhibitor with Potent Antitumor Activity against Breast Cancer in V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David M. Vigushin, Simak Ali, Paul E. Pace, Nina Mirsaidi, Kazuhiro Ito, Ian Adcock, and R. Charles Coom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in Cancer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7(4):971-9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pril 1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Association for Cancer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99280" y="7020000"/>
            <a:ext cx="203040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stern blot analysis of acetylated histone H4 in breast cancer cell li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99280" y="7020000"/>
            <a:ext cx="2030400" cy="406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2967120"/>
            <a:ext cx="8604360" cy="162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M. Vigushin et al. Clin Cancer Res 2001;7:971-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Association for Cancer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munodetection of acetylated hERα in MCF-7 breast carcinoma cel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99280" y="7020000"/>
            <a:ext cx="2030400" cy="406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1819440"/>
            <a:ext cx="8604360" cy="391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M. Vigushin et al. Clin Cancer Res 2001;7:971-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Association for Cancer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, effect of TSA on growth of NMU-induced rat mammary tumo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99280" y="7020000"/>
            <a:ext cx="2030400" cy="40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59040" y="1079640"/>
            <a:ext cx="456732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590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M. Vigushin et al. Clin Cancer Res 2001;7:971-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Association for Cancer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tomicrographs of tumor sections stained with H&amp;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199280" y="7020000"/>
            <a:ext cx="2030400" cy="40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09800" y="1079640"/>
            <a:ext cx="806760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0980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M. Vigushin et al. Clin Cancer Res 2001;7:971-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American Association for Cancer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